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26184"/>
        <c:axId val="36279352"/>
      </c:barChart>
      <c:catAx>
        <c:axId val="24726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79352"/>
        <c:crosses val="autoZero"/>
        <c:auto val="1"/>
        <c:lblAlgn val="ctr"/>
        <c:lblOffset val="100"/>
        <c:noMultiLvlLbl val="0"/>
      </c:catAx>
      <c:valAx>
        <c:axId val="36279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26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FE0-5CEE-496F-B5A2-A280ECC6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D3C-6E9C-452E-AFC0-ADD6AC3C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CE6-9F1F-40A1-8AD2-3F5C38CC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8A2-E3A9-4248-A07A-B6793AD4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FD4-1AC9-428C-9444-3120A108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E3F-A2E8-4C8F-8641-BCD1F282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2A7-E07C-4E0B-B7AC-ECDD5CD5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795B-7A0C-4B73-BCE7-DCD8C148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EAB0-CFE1-461C-939F-71FF764A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AD8-E39C-404F-A702-DCB1581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187-6A70-4C34-973F-F8ACE6E8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35B-F1AD-4106-8CD5-397D67C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AE7D6-3E95-4C5E-BB0A-67747E6736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