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55213"/>
        <c:axId val="23226330"/>
      </c:barChart>
      <c:catAx>
        <c:axId val="59955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26330"/>
        <c:crosses val="autoZero"/>
        <c:auto val="1"/>
        <c:lblAlgn val="ctr"/>
        <c:lblOffset val="100"/>
        <c:noMultiLvlLbl val="0"/>
      </c:catAx>
      <c:valAx>
        <c:axId val="23226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55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512-1402-4BDA-B7BA-962A1570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D52-4C35-451D-A1A0-2D17FD39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0E2-8B61-4042-AA67-41EC55C2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26A-88EB-45AD-92AC-3A582F59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E53-8500-4C08-B7EC-3406C23B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837-8C5C-44BD-911B-BF26E773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41C-CDE3-4917-94DF-4D5A5964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681-C1B9-40DE-BC60-00B3C1F4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B0B-743E-4664-8997-827D26F1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EDD-5E7A-4413-9161-10E5FCF4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F31-AD64-445D-A0EB-A6572D40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BEF-AA68-4B8B-8FF2-45C109B1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4070E-D139-4A8B-96B0-DDFE36EB86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