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295280" y="1676520"/>
            <a:ext cx="640080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s ti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1"/>
              </a:spcBef>
              <a:spcAft>
                <a:spcPts val="479"/>
              </a:spcAf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ulig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after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ouge</a:t>
            </a:r>
            <a:r>
              <a:rPr b="0" lang="en-US" sz="3200" spc="-1" strike="noStrike" baseline="30000">
                <a:solidFill>
                  <a:srgbClr val="fc0128"/>
                </a:solidFill>
                <a:latin typeface="Times New Roman"/>
                <a:ea typeface="Times New Roman"/>
              </a:rPr>
              <a:t>exp30%</a:t>
            </a:r>
            <a:r>
              <a:rPr b="0" lang="en-US" sz="3200" spc="-1" strike="noStrike" baseline="20000">
                <a:solidFill>
                  <a:srgbClr val="fc0128"/>
                </a:solidFill>
                <a:latin typeface="Times New Roman"/>
                <a:ea typeface="Times New Roman"/>
              </a:rPr>
              <a:t>exp20%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Times New Roman"/>
                <a:ea typeface="Times New Roman"/>
              </a:rPr>
              <a:t>indice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i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V="1">
            <a:off x="1295280" y="1219320"/>
            <a:ext cx="4724640" cy="380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962520" y="4191120"/>
            <a:ext cx="685800" cy="10666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4343400"/>
            <a:ext cx="686160" cy="991080"/>
          </a:xfrm>
          <a:custGeom>
            <a:avLst/>
            <a:gdLst/>
            <a:ahLst/>
            <a:rect l="0" t="0" r="r" b="b"/>
            <a:pathLst>
              <a:path fill="none" w="1906" h="2753">
                <a:moveTo>
                  <a:pt x="1906" y="2753"/>
                </a:moveTo>
                <a:lnTo>
                  <a:pt x="1906" y="2753"/>
                </a:lnTo>
                <a:lnTo>
                  <a:pt x="1906" y="2753"/>
                </a:lnTo>
                <a:cubicBezTo>
                  <a:pt x="1906" y="2270"/>
                  <a:pt x="1818" y="1795"/>
                  <a:pt x="1651" y="1376"/>
                </a:cubicBezTo>
                <a:cubicBezTo>
                  <a:pt x="1483" y="958"/>
                  <a:pt x="1243" y="610"/>
                  <a:pt x="953" y="369"/>
                </a:cubicBezTo>
                <a:cubicBezTo>
                  <a:pt x="663" y="127"/>
                  <a:pt x="335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38080" y="1066680"/>
            <a:ext cx="7162920" cy="1905120"/>
            <a:chOff x="838080" y="1066680"/>
            <a:chExt cx="7162920" cy="1905120"/>
          </a:xfrm>
        </p:grpSpPr>
        <p:sp>
          <p:nvSpPr>
            <p:cNvPr id="44" name=""/>
            <p:cNvSpPr/>
            <p:nvPr/>
          </p:nvSpPr>
          <p:spPr>
            <a:xfrm>
              <a:off x="6858000" y="1676520"/>
              <a:ext cx="114300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066680"/>
              <a:ext cx="1219680" cy="1067040"/>
            </a:xfrm>
            <a:custGeom>
              <a:avLst/>
              <a:gdLst/>
              <a:ahLst/>
              <a:rect l="0" t="0" r="r" b="b"/>
              <a:pathLst>
                <a:path w="3388" h="2964">
                  <a:moveTo>
                    <a:pt x="0" y="592"/>
                  </a:moveTo>
                  <a:lnTo>
                    <a:pt x="0" y="2371"/>
                  </a:lnTo>
                  <a:lnTo>
                    <a:pt x="677" y="2371"/>
                  </a:lnTo>
                  <a:lnTo>
                    <a:pt x="677" y="2964"/>
                  </a:lnTo>
                  <a:lnTo>
                    <a:pt x="2711" y="2964"/>
                  </a:lnTo>
                  <a:lnTo>
                    <a:pt x="2711" y="2371"/>
                  </a:lnTo>
                  <a:lnTo>
                    <a:pt x="3388" y="2371"/>
                  </a:lnTo>
                  <a:lnTo>
                    <a:pt x="3388" y="592"/>
                  </a:lnTo>
                  <a:lnTo>
                    <a:pt x="2711" y="592"/>
                  </a:lnTo>
                  <a:lnTo>
                    <a:pt x="2711" y="0"/>
                  </a:lnTo>
                  <a:lnTo>
                    <a:pt x="677" y="0"/>
                  </a:lnTo>
                  <a:lnTo>
                    <a:pt x="677" y="592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90920" y="114300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422" y="0"/>
                  </a:moveTo>
                  <a:lnTo>
                    <a:pt x="846" y="0"/>
                  </a:lnTo>
                  <a:lnTo>
                    <a:pt x="846" y="1038"/>
                  </a:lnTo>
                  <a:lnTo>
                    <a:pt x="1271" y="1038"/>
                  </a:lnTo>
                  <a:lnTo>
                    <a:pt x="635" y="1483"/>
                  </a:lnTo>
                  <a:lnTo>
                    <a:pt x="0" y="1038"/>
                  </a:lnTo>
                  <a:lnTo>
                    <a:pt x="422" y="1038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43000" y="5486400"/>
            <a:ext cx="2362680" cy="838440"/>
          </a:xfrm>
          <a:custGeom>
            <a:avLst/>
            <a:gdLst/>
            <a:ahLst/>
            <a:rect l="0" t="0" r="r" b="b"/>
            <a:pathLst>
              <a:path fill="none" w="6563" h="2329">
                <a:moveTo>
                  <a:pt x="1058" y="0"/>
                </a:moveTo>
                <a:lnTo>
                  <a:pt x="0" y="1482"/>
                </a:lnTo>
                <a:lnTo>
                  <a:pt x="1694" y="2329"/>
                </a:lnTo>
                <a:lnTo>
                  <a:pt x="6563" y="2329"/>
                </a:lnTo>
                <a:lnTo>
                  <a:pt x="5717" y="1058"/>
                </a:lnTo>
                <a:lnTo>
                  <a:pt x="2541" y="846"/>
                </a:lnTo>
                <a:lnTo>
                  <a:pt x="2541" y="2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80880" y="45720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33520" y="144792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85800" y="160020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38080" y="1752480"/>
            <a:ext cx="2514600" cy="1143000"/>
          </a:xfrm>
          <a:prstGeom prst="line">
            <a:avLst/>
          </a:prstGeom>
          <a:ln w="12600">
            <a:solidFill>
              <a:srgbClr val="00ae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1905120"/>
            <a:ext cx="2514600" cy="11430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43000" y="2057400"/>
            <a:ext cx="2514600" cy="1143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95280" y="2209680"/>
            <a:ext cx="2514600" cy="11430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447920" y="2362320"/>
            <a:ext cx="2514600" cy="1143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00200" y="251460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752480" y="266688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281952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81080" y="289548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733920"/>
            <a:ext cx="2514600" cy="1295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191120"/>
            <a:ext cx="144792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181480"/>
            <a:ext cx="14479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5029200"/>
            <a:ext cx="1295280" cy="762120"/>
          </a:xfrm>
          <a:prstGeom prst="rect">
            <a:avLst/>
          </a:prstGeom>
          <a:gradFill rotWithShape="0">
            <a:gsLst>
              <a:gs pos="0">
                <a:srgbClr val="4c4c4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257800"/>
            <a:ext cx="1752480" cy="68580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a0bbfd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3000" y="2151000"/>
            <a:ext cx="38005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onso</dc:creator>
  <dc:description>commentaires</dc:description>
  <dc:language>en-US</dc:language>
  <cp:lastModifiedBy>alonso</cp:lastModifiedBy>
  <cp:revision>0</cp:revision>
  <dc:subject>subjet</dc:subject>
  <dc:title>Titre</dc:title>
</cp:coreProperties>
</file>