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04790"/>
        <c:axId val="63349419"/>
      </c:barChart>
      <c:catAx>
        <c:axId val="83104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49419"/>
        <c:crosses val="autoZero"/>
        <c:auto val="1"/>
        <c:lblAlgn val="ctr"/>
        <c:lblOffset val="100"/>
        <c:noMultiLvlLbl val="0"/>
      </c:catAx>
      <c:valAx>
        <c:axId val="63349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4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B97-70E0-4564-8EEC-797DEDB4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712-66FB-48BF-B4FC-895C734A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A89-BD9F-4F4D-9A96-06B683F1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B4E-CE5E-4356-BEE4-5CB505C4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94F-964F-4703-AE2E-DCB883E0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988-43CB-4BF3-9B5B-BA8730E7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294-F017-45C8-AA4D-BBC77845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F3E-3D27-4C7E-8F55-4CC85EB6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E1B-EF4F-4829-953B-8CD388B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DE1-3003-4718-B0F0-289DB3B9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8AF-DDF4-41F6-81A4-821B71C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EDA-8CAF-488A-B17F-FFE9DE06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E9542-B542-45FC-8958-000E7DE25A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