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389071"/>
        <c:axId val="145596"/>
      </c:barChart>
      <c:catAx>
        <c:axId val="233890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5596"/>
        <c:crosses val="autoZero"/>
        <c:auto val="1"/>
        <c:lblAlgn val="ctr"/>
        <c:lblOffset val="100"/>
        <c:noMultiLvlLbl val="0"/>
      </c:catAx>
      <c:valAx>
        <c:axId val="1455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3890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9EA2-75F8-41EC-BBAD-C4E6D1F0E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B3D5-A88C-4C6B-91E3-4F81ECE94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8BFB-46C7-41C5-987A-2D16B3EFF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85ED-E834-4A51-83E9-155093D2A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E854-41E0-46D3-954D-BE987B96C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C872-88E9-4828-AA7A-9A9E3111A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809C-106A-4BBB-9A76-05382F79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EB31-A627-4C4C-AA0F-7BCE99AED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A185-1136-431F-ADF1-6696391A1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4B5D-03D2-4BB4-B19D-25170668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F9A8-FCD9-41C1-AEBC-777AC810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2E2C-2384-4261-82C2-AA43A3DF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F9F6C7-9522-4DE4-B0AE-34C0F1B5184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