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04360"/>
        <c:axId val="30455991"/>
      </c:barChart>
      <c:catAx>
        <c:axId val="16004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55991"/>
        <c:crosses val="autoZero"/>
        <c:auto val="1"/>
        <c:lblAlgn val="ctr"/>
        <c:lblOffset val="100"/>
        <c:noMultiLvlLbl val="0"/>
      </c:catAx>
      <c:valAx>
        <c:axId val="30455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04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4A7-275F-4440-A77C-3EEB879C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562-85F9-4C81-A52E-C5EDC491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EC5-F43F-4B6A-ACF2-7ED3971F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FEB-8E8D-4BCC-B514-65B3C6A1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554-AA6A-406A-8955-E64DA6C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B0F-5D47-4A3C-A382-57798B68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AB0-0B25-42A2-9304-1EDD4947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B53-0D3A-4C59-919B-2FE4B540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E7F-CEA4-44EC-829B-6C81A834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A71-760F-485B-BE2E-C671540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EFB-F21B-40C7-BD4E-8297E89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2F3-80D8-41E1-A4A3-DD2A6D44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B5B5-1DEA-4B66-B99A-AF4926CF29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