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2225611"/>
        <c:axId val="36260644"/>
      </c:barChart>
      <c:catAx>
        <c:axId val="5222561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260644"/>
        <c:crosses val="autoZero"/>
        <c:auto val="1"/>
        <c:lblAlgn val="ctr"/>
        <c:lblOffset val="100"/>
        <c:noMultiLvlLbl val="0"/>
      </c:catAx>
      <c:valAx>
        <c:axId val="3626064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22561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30CF-A00E-4A5B-8726-D53C2821B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1ECD-2347-4809-85CC-4445E83C1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A129-F9B2-4FBB-8F1D-0C1B1915D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CBBE-6EAF-4D85-8578-B9D10B9E5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CC8A-61EA-47C2-95B1-837E5665B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72DD-2C7C-48C2-9236-3194818EA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8A85-CBB2-4D4E-B094-D74844309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A8B7-3651-404F-82E3-FFC566CE6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2A58-49ED-454E-AD20-40C6AB04C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18AF-2CE4-4C78-8AD4-F1F82424F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C505-726F-4089-A155-309946B41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79BB-06FC-4FAC-AA39-19CBF7AC3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F82ABF-9DA6-4733-AA55-17A89455D5B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