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17756"/>
        <c:axId val="45637127"/>
      </c:barChart>
      <c:catAx>
        <c:axId val="44517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37127"/>
        <c:crosses val="autoZero"/>
        <c:auto val="1"/>
        <c:lblAlgn val="ctr"/>
        <c:lblOffset val="100"/>
        <c:noMultiLvlLbl val="0"/>
      </c:catAx>
      <c:valAx>
        <c:axId val="45637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7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055-7A3B-46E3-8D15-E16743C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42E-2DA2-40A0-9013-BC9B64BA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27A-E709-4C16-A142-37694AA7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9AC-C1CF-4827-8906-9BA9933F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9FC-5789-49A1-A086-85DA49E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F04-738B-457B-8B1E-5BABAEEB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C9F-040E-4583-9973-E557DE2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6A2-5607-454E-B29B-DE8E800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975-A98A-422B-97A5-EC357E0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1B4-A28A-4AF3-BF10-CF29538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3C8-A4EB-48F4-A900-68021D6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4B2-8BE6-4602-9636-C80E217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D165B-023E-48D7-A5D6-727BF37DAE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