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681039"/>
        <c:axId val="32471399"/>
      </c:barChart>
      <c:catAx>
        <c:axId val="556810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71399"/>
        <c:crosses val="autoZero"/>
        <c:auto val="1"/>
        <c:lblAlgn val="ctr"/>
        <c:lblOffset val="100"/>
        <c:noMultiLvlLbl val="0"/>
      </c:catAx>
      <c:valAx>
        <c:axId val="324713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810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C977-60A0-4AA9-8F9C-8869837E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95FF-1817-4833-BB91-38946EC6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729F-8D10-4BDE-817C-9F3BB4A2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488E-BF87-43B4-8EE5-4A34AFBA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3839-EEF5-40D2-ACE4-F8D733FE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069-D582-427C-9E4A-229AB99E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C000-1939-4B6B-BA6B-4869D85C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7D90-B595-4D3F-8344-1C1041F2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8E0F-BD0C-4F5D-8D1D-910BAF80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A5BB-86C5-489E-B9D5-1030E866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B2C6-799F-46BF-9D11-43D83865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DB50-6CDA-466A-A80C-A222988E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38F14-760E-47C3-80C0-E41EECED58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