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23310"/>
        <c:axId val="56065214"/>
      </c:barChart>
      <c:catAx>
        <c:axId val="65723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65214"/>
        <c:crosses val="autoZero"/>
        <c:auto val="1"/>
        <c:lblAlgn val="ctr"/>
        <c:lblOffset val="100"/>
        <c:noMultiLvlLbl val="0"/>
      </c:catAx>
      <c:valAx>
        <c:axId val="56065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23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5D8-F4F8-405F-B729-0E6DBA2C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EA1-BB6E-4D64-9FFD-21165586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79F-5582-4061-904C-F2DAF1DF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7CA-C4EE-45B7-AC78-209A7472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A7D-C05F-45BC-9F73-015C402F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65B-EFF9-4C4B-A5CC-6406636A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9F6-EECA-4B7C-9869-16025340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327-E87C-4B89-A796-B12463FF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D77-568B-457E-A881-4AD422C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3A5-B288-454A-84A1-41165796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158-3A61-4CA2-9215-F9BB2EC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F27-FBCE-4AE5-8ED7-4C11B255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A45B0-164A-4118-AC16-9C9CC863A1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