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52223"/>
        <c:axId val="2587119"/>
      </c:barChart>
      <c:catAx>
        <c:axId val="84452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7119"/>
        <c:crosses val="autoZero"/>
        <c:auto val="1"/>
        <c:lblAlgn val="ctr"/>
        <c:lblOffset val="100"/>
        <c:noMultiLvlLbl val="0"/>
      </c:catAx>
      <c:valAx>
        <c:axId val="2587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52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8116-9372-4A43-8365-BC08F0519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3B76-2D29-43E9-BD8C-079E8DB0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5F8-D5CC-4B38-A50B-04D733FDA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80B1-DF47-4A68-AEA1-2FE73981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52C8-A8B5-4D19-A214-27AA368F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82C-A5B9-45A1-90AB-63DF4B65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F3E6-FD39-4188-A9AF-44B4BDDEA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03B8-E0C3-4CA7-84CF-2ADC3309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B460-7089-458A-BB2A-95DE31E5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4035-29B4-41FD-A345-4B900597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7C7-A73A-4798-91B1-F36E0DF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40AB-6F5A-4FC8-90F2-8016E6AD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0568C-FAB5-4A76-AF06-9D44D01612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